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WHOOSH.WAV" ContentType="audio/x-wav"/>
  <Override PartName="/ppt/media/image23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C49-7EA3-4EAB-92D1-5DBD3B0D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B77-B1DA-42C2-AC19-A6429943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4BC-605F-4AB1-AD5E-52870A35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92B-858A-4332-B324-8DE02864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B479-C573-4F2D-9C1C-8BA4EFB4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6AA0-838C-417D-8FEA-A7CC9E34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BE19-6B9D-4287-B294-F8C7B921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AF2F-69C7-463B-9562-327502F2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728F-0A64-41FE-94DD-25ABF5BB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998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6EDB-0073-46F6-A049-8A78FAFC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56BB-B5C7-45FE-973A-9DC87F7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BB0-B1EB-454B-BBBA-E1F5262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8697-C01B-4DC3-8E72-97B650A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C0DB-65F5-411B-A961-573C7E7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4BB-00B6-4CB4-A126-BEA2007C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7FA0-B3B0-481C-8A88-9F8231A5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190D-FA04-4B39-B323-C07BABA5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699-0FD5-4EB9-A39E-0D35BC98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11A-C96D-4750-A93F-F1ACCF0F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8C3-AC3C-4A50-9DD4-7DE2A70C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46C-0271-4B53-89D6-45023D60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02B-4464-4EB1-9A96-C48D7557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2C3-2D2E-40FE-A117-7EAC003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E9A-8D6A-4F56-8EBF-D831A241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6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6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691-A870-4A41-A6B2-6F985B7FB759}" type="slidenum">
              <a:rPr b="0" lang="en-US" sz="1400" spc="-1" strike="noStrike">
                <a:solidFill>
                  <a:srgbClr val="80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E24C-B753-4C36-9F40-0D333FFFA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Transportation Sub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48006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3. Guidanc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information concerning the control of the vehicl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systems can be simple or quite comple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ps, GPS, traffic lights, keels, comp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295280"/>
            <a:ext cx="4267080" cy="44809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99"/>
                </a:solidFill>
                <a:uFillTx/>
                <a:latin typeface="Times New Roman"/>
              </a:rPr>
              <a:t>4. Contro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speed and direction of a vehicle’s pa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Steering &amp; brakes, rudders &amp; flaps, propellant (rocke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Transportation Sub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05160" y="1219320"/>
            <a:ext cx="3733560" cy="487656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uppor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aint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keeps everything 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age, gas stations, mechanics, control tower, marinas, NA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219320"/>
            <a:ext cx="3809880" cy="4908960"/>
          </a:xfrm>
          <a:prstGeom prst="rect">
            <a:avLst/>
          </a:prstGeom>
          <a:noFill/>
          <a:ln cap="rnd" w="5724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</a:rPr>
              <a:t>Structur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the basic framework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accommodate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ehicle’s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cargo and form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k.a.: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chassis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hul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fuse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3733920"/>
            <a:ext cx="5639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ransportation sub-systems are present in this pictu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4120" y="23623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erm would you use to describe this portion of the bo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7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998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-42696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</a:t>
            </a:r>
            <a:r>
              <a:rPr b="1" i="1" lang="en-US" sz="4400" spc="-1" strike="noStrike" u="sng">
                <a:solidFill>
                  <a:srgbClr val="33cc33"/>
                </a:solidFill>
                <a:uFillTx/>
                <a:latin typeface="Arial"/>
              </a:rPr>
              <a:t>Tra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sp</a:t>
            </a:r>
            <a:r>
              <a:rPr b="1" i="1" lang="en-US" sz="4400" spc="-1" strike="noStrike" u="sng">
                <a:solidFill>
                  <a:srgbClr val="0033cc"/>
                </a:solidFill>
                <a:uFillTx/>
                <a:latin typeface="Arial"/>
              </a:rPr>
              <a:t>orta</a:t>
            </a:r>
            <a:r>
              <a:rPr b="1" i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tion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he proce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y which people or goods are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ov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 delivered from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ne place to anoth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200400"/>
            <a:ext cx="4038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cc33"/>
                </a:solidFill>
                <a:uFillTx/>
                <a:latin typeface="Times New Roman"/>
              </a:rPr>
              <a:t>Four basic typ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cc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</a:rPr>
              <a:t>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8000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La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s that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ove goo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peop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rom one place to another </a:t>
            </a:r>
            <a:r>
              <a:rPr b="1" lang="en-US" sz="3600" spc="-1" strike="noStrike" u="sng">
                <a:solidFill>
                  <a:srgbClr val="33cc33"/>
                </a:solidFill>
                <a:uFillTx/>
                <a:latin typeface="Arial"/>
              </a:rPr>
              <a:t>on EAR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10280" y="2971800"/>
            <a:ext cx="1830600" cy="1149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flipH="1">
            <a:off x="533160" y="4267080"/>
            <a:ext cx="2190600" cy="1960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03848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 flipH="1">
            <a:off x="6924600" y="4389480"/>
            <a:ext cx="1935360" cy="201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use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irpla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icopt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if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engers and/or cargo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o the ai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order to move from place to pla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10280" y="4876920"/>
            <a:ext cx="1809720" cy="1193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2743200" cy="101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flipH="1">
            <a:off x="0" y="0"/>
            <a:ext cx="2286000" cy="175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96080" y="228600"/>
            <a:ext cx="1121040" cy="148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Wat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wat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uppor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vesse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transport of people or good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979720" cy="1679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 rot="227400">
            <a:off x="304920" y="4343040"/>
            <a:ext cx="22190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895480" y="5533920"/>
            <a:ext cx="2230560" cy="13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Spac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s that move people and goods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utsid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earth’s atmospher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flipH="1">
            <a:off x="3580920" y="4800600"/>
            <a:ext cx="1752840" cy="1073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162920" y="2666880"/>
            <a:ext cx="1660320" cy="26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Transportation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ub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86400" y="2209320"/>
            <a:ext cx="3276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ul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362320"/>
            <a:ext cx="3810240" cy="283716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Interrelated par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at work together to make vehicles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42840" y="1143000"/>
            <a:ext cx="3352680" cy="12952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191120" y="2590920"/>
            <a:ext cx="761760" cy="1371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962520"/>
            <a:ext cx="8380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428640"/>
            <a:ext cx="8380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038480"/>
            <a:ext cx="76212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Transportation Sub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143000"/>
          <a:ext cx="7696440" cy="5334120"/>
        </p:xfrm>
        <a:graphic>
          <a:graphicData uri="http://schemas.openxmlformats.org/drawingml/2006/table">
            <a:tbl>
              <a:tblPr/>
              <a:tblGrid>
                <a:gridCol w="2590920"/>
                <a:gridCol w="5105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parts of veh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ul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gine &amp; Trans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usp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prings, Wing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teering, Brake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aps, GPS, Sign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Struct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hassis, Body, Fuse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Garage, Gas Station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Transportation Subsyste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098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8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1.Propuls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s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sh forw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drive an object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in word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orwards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ll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o dr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ce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pel from a starting poi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achine/eng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eates the push an object forwar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1066680"/>
            <a:ext cx="3962160" cy="564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cc"/>
                </a:solidFill>
                <a:uFillTx/>
                <a:latin typeface="Times New Roman"/>
              </a:rPr>
              <a:t>2.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Times New Roman"/>
              </a:rPr>
              <a:t>Suspensio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suppor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ehicles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s ride more comforta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prings, shock absorbers wings, water, &amp; 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a vehicle to its whee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5:49Z</dcterms:created>
  <dc:creator>Jerianne Taylor</dc:creator>
  <dc:description/>
  <dc:language>en-US</dc:language>
  <cp:lastModifiedBy>Barnstable Middle School</cp:lastModifiedBy>
  <dcterms:modified xsi:type="dcterms:W3CDTF">2012-05-21T12:05:18Z</dcterms:modified>
  <cp:revision>29</cp:revision>
  <dc:subject/>
  <dc:title>Transportation Systems</dc:title>
</cp:coreProperties>
</file>